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0C3-0E7A-449D-9F74-3F92AF45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442-E70D-4E56-A012-C8C4BD4D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04F-7424-4742-AB3D-6FFC2FAC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12D-D4F9-48D5-9A31-1C95A4F1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4FE0-15DA-45B2-A937-6B649C1A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C002-5C00-4C17-8570-DFCC5D45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8859-C158-42A2-9689-C2689A7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0ED0-F428-41C9-98CF-78468055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17BB-E87E-445F-AFDB-3F3EA4BB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5AAE-44AA-4916-A4BB-8967E588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2738-F050-4A47-9C88-00C0E6B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AC9-77E7-49B9-B6D0-7A45EAB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C484-DD8B-4883-AB7C-52CB20B7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1E4F-1689-4AF9-A10B-892A821C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BA49-9B67-4FAC-B88F-964356F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4508-7139-4DCC-A4CA-91A6A3F7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B706-FF4A-4B07-8C51-0A4F2CCB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742-34B4-476A-BB99-FFE9D43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A26-C4CB-4EB0-AD4F-1B10BF6D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4FC-29C9-435E-9239-6635DB6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533-0F82-4BC8-9BE5-2220CB0C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31C-39A8-4581-AF6D-705939A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DF0-35EA-4AB5-A513-1EE56583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F7C-B1B7-4432-8CE7-D4CC5E11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B1C-0945-4AE7-B018-9BD6B885F93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0CCD-39E0-4D58-B8E9-BA6E4DE606A0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icrosoft.com/learningessentials/default.m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echnology 101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Ra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810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teach-nolog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requires a membership for ful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atozteacherstuff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.discoveryeducation.com/lesson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edhelp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ccess without paid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lessonplanz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D-edtech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te was created for inservice teachers at UMD.  It is a great tool for anyone interested in the integration of technology into the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920"/>
            <a:ext cx="7564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6633"/>
                </a:solidFill>
                <a:latin typeface="Times New Roman"/>
              </a:rPr>
              <a:t>HMS Teacher Wiki</a:t>
            </a: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523880" y="19051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ki is a work in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al of the HMS Teacher Wiki is to create a one-stop resource share for teachers at Hilbert Middle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who choose to join this Wiki will be able to add content that would be useful to co-teachers, parents and students a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link above to view some useful onlin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ktop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folders, your classroom or Lab LM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to Lab LMC with k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–Sav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share- Lab 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Folder – create  your own or have one created for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s and Attac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click on them and open with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s out of order – click on received and will put them back in dat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screen- good for viewing spam f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Book – create distribution lists –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email – to box- New button- distribution list – add new name and email add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Smart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ens – stalkers, posting things onl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s – stuff that NEVER GOE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websit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berbulling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, Bing, MSN, Yah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n by advertising and money(sponsored 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pedi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 changing – user can modify the text- not always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– give credit – plagiarism, citation etc. and cred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gov –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edu –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com –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mil –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net -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org –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C:\Program Files\Microsoft Office\Clipart\smbusbas\BS00093_.wmf"/>
          <p:cNvPicPr/>
          <p:nvPr/>
        </p:nvPicPr>
        <p:blipFill>
          <a:blip r:embed="rId1"/>
          <a:stretch/>
        </p:blipFill>
        <p:spPr>
          <a:xfrm>
            <a:off x="5367240" y="2101680"/>
            <a:ext cx="37386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earch –narrow you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er vs. T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berian Tig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Blue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 and Videos – blocked but can be opened if you 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s, News and Shopping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keywords, titl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out things – ebay and ama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type – PDF, PowerPoint, Word, Excel and Pictures- .jpg or .b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on Plans –usually comes with worksheets and anything else you might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ork Smarter Not Hard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Websites with Less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fin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u Michigan Virtual University  Thru Learnport- free to all Michigan Teac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mivu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Trekker and other usefu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www.microsoft.com/learningessentials/default.msp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will need to download learning essenti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educationlabs.com/projects/MathWorksheetGenerator/Pages/default.aspx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recipes4success.com/index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to follow with all hot links needed for Microsof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26:41Z</dcterms:created>
  <dc:creator>radena</dc:creator>
  <dc:description/>
  <dc:language>en-US</dc:language>
  <cp:lastModifiedBy>Pamela Rizzo</cp:lastModifiedBy>
  <dcterms:modified xsi:type="dcterms:W3CDTF">2010-11-02T03:15:40Z</dcterms:modified>
  <cp:revision>32</cp:revision>
  <dc:subject/>
  <dc:title>Technology 101</dc:title>
</cp:coreProperties>
</file>